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35F38B9-538D-45E2-95DF-5040AA19C6DA}"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419282F-F054-4084-BB18-669F368B2F5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08A5BE9-657C-4DE3-98E9-9A76CA78064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AE42E06-3921-4392-91D3-F3E616A63ADC}"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E0E7ED9-7E30-4CF3-B27E-FFE239D0DC02}"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EB39C89-9B49-47C1-9D4A-261D29E7EED1}"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09C47F8-8E96-4111-8F0D-7C37C7CDBB5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866F292-6529-4D68-A382-C4A45B061D21}"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610CD4A-C8EF-442B-AFB5-1B52A5629AA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B91F0B8-952D-4592-BF71-92182F4DB52C}"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57137ED-DE9A-4D60-BA80-5FA8FC52479B}"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989F-E84E-45F6-AE30-7D65697635E0}"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med" type="triangle" w="med"/>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med" type="triangle" w="med"/>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med" type="triangle" w="med"/>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med" type="triangle" w="med"/>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med" type="triangle" w="med"/>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med" type="triangle" w="med"/>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med" type="triangle" w="med"/>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med" type="triangle" w="med"/>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med" type="triangle" w="med"/>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